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1F6AE-7EE5-4BB5-B58B-D1360BE763C5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0535-85DC-4F38-9E74-F5570DA6F44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82604-7A4D-4291-9377-1360273A0A43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C23A8-B6D5-4617-BF00-03044728E26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D7F1F-83B3-4FCE-835E-E5C7324B0AF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3D44E-6FFA-4C3D-8FB5-D1FFB7F857F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4C19C-039E-470F-ACFA-86A3C3A3842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35E5D-9C32-40B2-8D79-AD601459073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C7E01-8C39-4597-9819-F8CFDF2ACE4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03879-0950-4AFA-A31A-3E9A011025B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B2F8-53CA-433A-A00B-C0B6BAD5AFD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9F252-CD63-433A-8D66-B1C267EB119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F211C-60EF-4EFD-BE4E-AF7D9F71782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76185-DAE5-4C3C-8F89-14A48E5DD95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6C78-0382-49C0-A067-4773121AA43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0A1C-CBE2-4A60-98ED-5D856E09A87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77E0E-0953-4A2D-895D-FF89B3148F9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C5F45-551E-49B8-BBE2-367470D8573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4A543-C33C-4234-8342-54F728A61E7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6AB74-785F-40FA-961A-267191DDA12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B170B-98D9-4D9B-BC63-DF04CFD089F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D2341-3123-4850-B141-78B57CE107C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FA5B6-6BCA-4224-8C22-90AF530C9A4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0106F-CD34-4526-B5E2-EB7844CEAFC3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7B5BC-C272-4745-897E-D706A5D258F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45AD-B4DD-44AC-A7C3-6FE359EA9BB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DD57-1486-4832-B921-AC96CAAE7CC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09F32-A1C4-4B0F-9FD0-982FF09EC56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2DC2-BA8D-43E0-BCE6-DA7106B0921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8B41A-0106-4F19-B95E-A89C8FF1BD9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876B8-1307-40D4-9AD3-B08F3813823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is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1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2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3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4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5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6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kbvg@kbvg.n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kstvak 4"/>
          <p:cNvSpPr/>
          <p:nvPr/>
        </p:nvSpPr>
        <p:spPr>
          <a:xfrm>
            <a:off x="4319640" y="1058760"/>
            <a:ext cx="5127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(online curs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Vraag 3: wat is “VBR”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8720" y="1294920"/>
            <a:ext cx="8783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het digitale netwerk van de Belastingdienst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verbreding van het Digitale beslagregister van de gerechtsdeurwaarders met overheidspartij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Variable Bit Rate, de gebruikte techniek bij het encoderen van d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Ik wil PE-punten. Wat moet ik doen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Stuur een email naar </a:t>
            </a:r>
            <a:r>
              <a:rPr b="0" lang="nl-NL" sz="2800" spc="-1" strike="noStrike" u="sng">
                <a:solidFill>
                  <a:srgbClr val="ccccff"/>
                </a:solidFill>
                <a:uFillTx/>
                <a:latin typeface="Bliss"/>
                <a:hlinkClick r:id="rId2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onderwerpregel: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Antwoorden PE-vragen VBVV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mail: 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voor- en achternaam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voluit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KBvG-lidnummer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Antwoorden MC-vragen, bv: 1a, 2b, 3c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5543640" y="2592360"/>
            <a:ext cx="4174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Bliss"/>
              </a:rPr>
              <a:t>Dank voor uw aandach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nten voora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Q&amp;A voor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Cursus achteraf beschikbaar via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Link wordt gedeeld met de l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PE-punten worden toegekend op basis van beantwoording MC-vragen na af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Drie vragen met elk drie antwoordkeu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Antwoorden opsturen naar </a:t>
            </a:r>
            <a:r>
              <a:rPr b="0" lang="nl-NL" sz="2800" spc="-1" strike="noStrike" u="sng">
                <a:solidFill>
                  <a:srgbClr val="0070c0"/>
                </a:solidFill>
                <a:uFillTx/>
                <a:latin typeface="ScalaSans Regular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4319640" y="1058760"/>
            <a:ext cx="51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Multiple choice-vragen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Wet vereenvoudiging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beslagvrije voet</a:t>
            </a: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Houdt u pen en papier bij de hand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Bliss"/>
              </a:rPr>
              <a:t>Vraag 1: wat was de aanleiding voor de nieuwe beslagvrije voet?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8720" y="129492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e samenloop van beslagen en verrekeningen is onwenselijk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Er is nu vaak te weinig informatie om de beslagvrije voet goed te kunnen vaststell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oor de coronacrisis is de belangstelling voor de schuldenproblematiek toegenom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  <a:ea typeface="Calibri"/>
              </a:rPr>
              <a:t>Vraag 2: wat of wie is de coördinerende deurwaarde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8720" y="1294920"/>
            <a:ext cx="8638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functionaliteit van de nieuw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met een preferente vordering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die int, verdeelt, en aanspreekpunt is voor schuldenaar en derd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stin van Elst</dc:creator>
  <dc:description/>
  <dc:language>en-US</dc:language>
  <cp:lastModifiedBy>Masha Ilse Cazemier</cp:lastModifiedBy>
  <dcterms:modified xsi:type="dcterms:W3CDTF">2020-11-12T13:03:22Z</dcterms:modified>
  <cp:revision>68</cp:revision>
  <dc:subject/>
  <dc:title>PowerPoint-presentatie</dc:title>
</cp:coreProperties>
</file>